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7C7F-40F9-40AA-ACCE-F64B021601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C56B-3AE9-402E-A90B-D07178BD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B006-B824-4C6C-BC6B-1A1302E5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2029-C45E-40DE-9C34-DB113DF5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7C24-E96A-4994-8A1F-35515670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D06B8-E609-4D92-AD40-8B1ADBD2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C7D05-B1C3-4259-9A6B-B794394C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AA6B9-72DE-4CBF-9DBB-31145D59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D2A31-F221-46CD-9238-F1036489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B3458-82BA-40C4-97EB-B86A2EB6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00C24-6A6C-43C7-83DE-9B0D5CC9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8A0A2-FA73-4E89-B707-1444FA00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CBE5-48C1-4E03-BEBA-162FE341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CD310-72C4-45A5-9BDB-BA91F3A6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77FBD-6DEA-4B12-BBB9-8FE074CE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1FEF1-C5C0-4047-84F3-FE9A29C5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0A201-3341-40CE-B96D-AB83378E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A6A83-751E-4EB9-8FA5-70233119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9D8660-26A5-4E0A-BBE1-4F9D0563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180E14-877F-464A-AD36-C9240A7E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87752A-649E-42D1-8558-CA0D366C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9426F7-1D56-4CB0-90A8-7997C9B0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EB9C3C-DD4C-4F4C-9F1B-A5365071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B372-2500-477B-9C03-31CEE397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133015-9F93-4DE7-94A5-7B14A067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C60A09-1AB7-45E3-BA2B-C4998ADD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4EA26C-ED88-4F54-BEF4-D8E8F041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EA815A-9CA0-4E51-AD96-713921EE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AC9CCA-B1F9-40DD-9E99-1993248A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84BB03-69A6-42CD-92EF-C554603D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48D4C7-9F85-4B72-8196-5096A5DF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CD8D-D044-4993-AA5C-5506BA91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C745-16DC-4A29-ADB6-D8AF46FE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416F-06FC-4443-8165-36DB7DEA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771B-E1B4-4AE5-B1FB-90EAFE67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FA2E-8FCA-478E-B877-4ABDC211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6A3B-A2D1-4170-9A49-6B0B8CAE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4626-F8D4-46F0-A109-BBD51F7E1397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58F9-C6BB-4772-BED0-DE3F15D6F850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1F39-72E9-485E-8A91-B27F4072C813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FD68-7452-43D9-B004-5F9833A0B0BB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2B35-6BA7-4A06-A3E1-88FD6C23975D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7A9D-2E5C-4B42-9591-DD33DF3816CB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of Container Wago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4280" y="6093000"/>
            <a:ext cx="2654280" cy="461880"/>
            <a:chOff x="134280" y="6093000"/>
            <a:chExt cx="265428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400" y="6308640"/>
              <a:ext cx="26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_2015-01-20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4280" y="60930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cument title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1BF0-53C3-4F1D-AE02-E96E8DA1B45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20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B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35C9-83B5-445E-AD4F-9ED2100914F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Textfeld 5"/>
          <p:cNvSpPr/>
          <p:nvPr/>
        </p:nvSpPr>
        <p:spPr>
          <a:xfrm rot="20397600">
            <a:off x="64339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22320" y="2255760"/>
            <a:ext cx="9883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 of results and comment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ssential aspect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ects intentionally left out of the analysis, the impact of which is as follows: (…)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y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 present value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ak-even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years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year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positive value:  revenue,    negative values: 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break-even:   number of years until the alternative option becomes advantageou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annuity:  average annual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D782-AA0E-4467-9864-83CA52712C7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ponsible Departmen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tenance documentation 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Origi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riation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alternative option to basic op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y Performance Indicato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age between reprofiling wheel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06E0-D48F-4FB0-A069-9DC06A21D38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7" name="Textfeld 1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-and-loss chart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Delta of variant “B” in relation to variant “A” [= zero lin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8A9A-48B2-4477-AF5D-5BE718F767F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1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3" name="Picture 303" descr=""/>
          <p:cNvPicPr/>
          <p:nvPr/>
        </p:nvPicPr>
        <p:blipFill>
          <a:blip r:embed="rId1"/>
          <a:stretch/>
        </p:blipFill>
        <p:spPr>
          <a:xfrm>
            <a:off x="878040" y="1446120"/>
            <a:ext cx="8132760" cy="518976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4"/>
          <p:cNvSpPr/>
          <p:nvPr/>
        </p:nvSpPr>
        <p:spPr>
          <a:xfrm rot="20397600">
            <a:off x="62053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eak-even char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9F63-3342-45C4-9EEC-A157262D72B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Textfeld 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85978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recommended to purchase the container wagon made by company B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ed Option / Recommend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cause of the radial adjustability of the wheelsets, the wear rate of the wheels is lower and the lifetime of the wheels and the reprofiling cycle are therefore considerably lo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e to the higher quality of the container locks, maintenance expenditure is lower compared with the container wagon made by company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natory Statement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-even:     13 year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erage Annual Savings     (Delta Annuity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rify financial optio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condition for Implement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a purchase time schedule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tain approval from financial controlling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rther Procedure        Target Date / Responsibiliti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488B-E950-4973-B09C-5A8C721AAFD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0" name="Textfeld 1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val 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73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mpiled by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74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Traceability of implementati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76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9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1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82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5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6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7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93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alidated by client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94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95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9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401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6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7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8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9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0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1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2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3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14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1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DD3A-284E-4E6B-BB76-6D83FB703D5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6" name="Textfeld 49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chase of 85 new container flat wagons, each carrying 60’ in total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operator’s quality gate (filter) has been applied, only the container flat wagons of the two companies A and B remai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onsible for the LCC calculation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s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/09/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/01/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Life Cycle Costs of both remaining wagons are to be calculat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Client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rting 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tas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iginator of the LCC calculation, dat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7320" y="6419880"/>
            <a:ext cx="494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ed,  A = Agreed  D = Decided,  P = Preconditions in place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c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D          P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8900-9A79-4C71-BA94-FEB880D2CA8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 Framework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relevant / relevant, but not part of the 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ained in the 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rmined on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7004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7004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container locking 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5448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 replacement of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5448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ingle Sgns-type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53040" y="41162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76520" y="40766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-type 380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of other parts of the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consumption while operat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access charg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ading / unload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5A4C-0F76-444E-A0FE-AA4A93A3128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3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Breakdown Structure / System Environment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unted par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carriag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else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872800" y="4218840"/>
            <a:ext cx="179604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872800" y="5515920"/>
            <a:ext cx="181512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F16D-7E09-4062-9C6C-9F9D018058B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20"/>
          <p:cNvSpPr/>
          <p:nvPr/>
        </p:nvSpPr>
        <p:spPr>
          <a:xfrm rot="20397600">
            <a:off x="628164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61468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. Oper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703600" y="1944720"/>
            <a:ext cx="21780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1 Energ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2 Staf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3 Clean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4 Making avail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 Insurance /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6 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 Infrastructure u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 seg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b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track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ipment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04180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. Mainten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472520" y="1484280"/>
            <a:ext cx="233820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V. Product Failu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48480" y="1936800"/>
            <a:ext cx="21481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1  Product 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3  Malfunc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plann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1  Pro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3  Malfun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0160" y="1496880"/>
            <a:ext cx="2315880" cy="468180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chase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16080" y="1949400"/>
            <a:ext cx="211608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One-off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Recurrent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assembly 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ommissioning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116680" y="1936800"/>
            <a:ext cx="212868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0 “One-off” prepar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ection / Diagnostic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4 Condition-bas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7 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system for vehicl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CC cost blocks used for the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49400" y="6194520"/>
            <a:ext cx="65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)  For simplicity’s sake, the term “purchase” also comprises residual costs as well as disposal / further utilisation.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72880" y="2998800"/>
            <a:ext cx="218304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097600" y="4092480"/>
            <a:ext cx="2182680" cy="37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089680" y="31590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67D0-7266-4186-929C-2B10B0A2A49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Textfeld 15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pose &amp; brief description of each op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reduced maintenance expenditure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well-known characteristics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d to the existing wagon type, both the lifetime of the wheels and the reprofiling cycle are extended. The reliability of container lockings will be significantly improve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wer investment cost may result in maintenance expenditure being the same as today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D1E1-1416-45DA-8DA8-FCCC5D9DBE4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Textfeld 11"/>
          <p:cNvSpPr/>
          <p:nvPr/>
        </p:nvSpPr>
        <p:spPr>
          <a:xfrm rot="20397600">
            <a:off x="48337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nts: list of principal difference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 rate:                 10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 rate:                   3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 span of wagon:      25 year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nual mileage:          115,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nings are fixed and equivalent for both options. For this reason only the cost structure of the two options will be compar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rks concerning general assumptions for all options, comments and critical factor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wheelse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running gear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container loc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ance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container locks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FCE2-8086-4C45-8CAC-5E9AE3E3CCF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Textfeld 20"/>
          <p:cNvSpPr/>
          <p:nvPr/>
        </p:nvSpPr>
        <p:spPr>
          <a:xfrm rot="20397600">
            <a:off x="55195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osition of Cost and Cycle Dat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,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,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92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container lock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18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9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rrective maintenance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profiling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7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5236-3871-4A69-94EB-F93AE701619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2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934D-019D-4D4F-9B67-C49A1E05D74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Textfeld 4"/>
          <p:cNvSpPr/>
          <p:nvPr/>
        </p:nvSpPr>
        <p:spPr>
          <a:xfrm rot="20397600">
            <a:off x="59767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2320" y="2252520"/>
            <a:ext cx="9878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3T13:14:47Z</dcterms:modified>
  <cp:revision>83</cp:revision>
  <dc:subject/>
  <dc:title>Slide 0</dc:title>
</cp:coreProperties>
</file>